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5FC-E0AD-4D15-B5ED-03DD2C36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A3A-A795-4F8A-AE0D-FEC2F90F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BE3-DD34-4AAF-AE0B-8484B2B6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960-103B-438B-A801-6F2A7428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9E3A-DD86-4832-B466-EAE47633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6EF-94D6-4ADE-A63D-0AD932B8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CFE-856D-485F-A056-4DA635A3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03D-D130-4A5C-9999-5B3E8847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54F-4584-4248-A179-ABDCD231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C275-FD70-4134-8681-12107DC6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637D-4B10-4F67-85C4-A0E3331D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E42-F505-47F6-918E-B400965C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3496-33A3-4850-8C66-271ECE649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450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2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728640"/>
            <a:ext cx="2808360" cy="210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59280" y="3621240"/>
            <a:ext cx="2808360" cy="2106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476360" y="3627360"/>
            <a:ext cx="2808360" cy="210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084720" y="727200"/>
            <a:ext cx="2808360" cy="2106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132000" y="717480"/>
            <a:ext cx="2808360" cy="210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7" name=""/>
          <p:cNvSpPr/>
          <p:nvPr/>
        </p:nvSpPr>
        <p:spPr>
          <a:xfrm>
            <a:off x="3132000" y="4525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3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450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32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76360" y="3357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3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3357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36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08:05:22Z</dcterms:created>
  <dc:creator>Telecom Italia S.p.A.</dc:creator>
  <dc:description/>
  <dc:language>en-US</dc:language>
  <cp:lastModifiedBy>Telecom Italia S.p.A.</cp:lastModifiedBy>
  <dcterms:modified xsi:type="dcterms:W3CDTF">2006-01-04T08:51:49Z</dcterms:modified>
  <cp:revision>4</cp:revision>
  <dc:subject/>
  <dc:title>Diapositiva 1</dc:title>
</cp:coreProperties>
</file>