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D303-A328-4443-B1A2-123D1A20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DBE6-CD9C-4CD3-8C37-869BC833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5E12-66A2-4FBF-A17C-0F78FFA0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B17F-FD52-488C-BB84-96E35868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1E70-899D-4450-ABD1-6D01DB0A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8DD8-DBA4-4BA2-8332-8C4AADB7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3EE4-8657-42F0-ACFD-C9545393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A90F-B785-44FE-9EF6-DEBD4DB6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8D6A-1C20-4A8A-B3A6-00126F66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516C-61F5-49F3-84F2-17B9E0DF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D6B6-8F36-4CB5-AD15-5D4870CA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C4B5-D7B0-4B55-98AB-E41FBE0B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1460-E139-47CC-9977-44640E560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450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25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80" y="728640"/>
            <a:ext cx="2808360" cy="210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859280" y="3621240"/>
            <a:ext cx="2808360" cy="2106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476360" y="3627360"/>
            <a:ext cx="2808360" cy="210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084720" y="727200"/>
            <a:ext cx="2808360" cy="2106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132000" y="717480"/>
            <a:ext cx="2808360" cy="210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7" name=""/>
          <p:cNvSpPr/>
          <p:nvPr/>
        </p:nvSpPr>
        <p:spPr>
          <a:xfrm>
            <a:off x="3132000" y="4525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30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4720" y="450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32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76360" y="3357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34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3357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Arial"/>
              </a:rPr>
              <a:t>36 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4T08:05:22Z</dcterms:created>
  <dc:creator>Telecom Italia S.p.A.</dc:creator>
  <dc:description/>
  <dc:language>en-US</dc:language>
  <cp:lastModifiedBy>Telecom Italia S.p.A.</cp:lastModifiedBy>
  <dcterms:modified xsi:type="dcterms:W3CDTF">2006-01-04T08:51:49Z</dcterms:modified>
  <cp:revision>4</cp:revision>
  <dc:subject/>
  <dc:title>Diapositiva 1</dc:title>
</cp:coreProperties>
</file>