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1715-9BD5-4689-83CB-EF84D9AB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6F0-A91E-47A0-8E85-239F8595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87AC-7FCB-4F37-93BF-E639817A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B26-5C85-418E-A6B3-8BAAF722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2B1-B242-459E-90C8-2D8A3714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A6E-506B-4779-93C3-23693E0F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3C8F-50CA-49FA-9933-FCBA0148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88A-9C99-4011-BF33-2D693762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8C7-BED1-4D8A-BED8-FDDF2DB9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94B7-BCBA-40C2-911F-0F6043C0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198-28F5-4B2A-88BA-3993461C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C599-3AB4-4197-9574-D210B648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3A8D-1C48-46C9-B630-D3E435AD7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450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2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728640"/>
            <a:ext cx="2808360" cy="210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59280" y="3621240"/>
            <a:ext cx="2808360" cy="2106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476360" y="3627360"/>
            <a:ext cx="2808360" cy="210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084720" y="727200"/>
            <a:ext cx="2808360" cy="2106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132000" y="717480"/>
            <a:ext cx="2808360" cy="210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7" name=""/>
          <p:cNvSpPr/>
          <p:nvPr/>
        </p:nvSpPr>
        <p:spPr>
          <a:xfrm>
            <a:off x="3132000" y="4525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3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4720" y="450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32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76360" y="3357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3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3357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36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08:05:22Z</dcterms:created>
  <dc:creator>Telecom Italia S.p.A.</dc:creator>
  <dc:description/>
  <dc:language>en-US</dc:language>
  <cp:lastModifiedBy>Telecom Italia S.p.A.</cp:lastModifiedBy>
  <dcterms:modified xsi:type="dcterms:W3CDTF">2006-01-04T08:51:49Z</dcterms:modified>
  <cp:revision>4</cp:revision>
  <dc:subject/>
  <dc:title>Diapositiva 1</dc:title>
</cp:coreProperties>
</file>