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20D-610A-48FD-9789-7FF4FB1A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38AA-2E0C-4D3C-8F05-1D7A8D9C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7297-248F-42B6-ADB9-589F7A2B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DB7-98B0-4002-BFA0-D06C3A4C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FD2F-BD81-49C5-B406-4EBA4B41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72B-9478-482D-9527-4456B7B8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583-CD17-4685-8B5F-01FBC1BD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E7C-359E-443F-BE41-F3DB68EB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AC2-B085-48FB-880D-F1F444E1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AE40-B142-4982-88B7-45022E7B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34E-F856-4A81-9635-57426BEC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395-740E-43B9-B5C4-9543EF6F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C011-F834-4D34-8C01-F044B5DBB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313440" cy="1908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75640" y="4456080"/>
            <a:ext cx="2087280" cy="156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645080" y="4456080"/>
            <a:ext cx="2087640" cy="156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411280" y="4456080"/>
            <a:ext cx="2087640" cy="156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79280" y="4456080"/>
            <a:ext cx="2087640" cy="156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411280" y="2370240"/>
            <a:ext cx="2087640" cy="156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179280" y="2370240"/>
            <a:ext cx="2087640" cy="156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411280" y="404640"/>
            <a:ext cx="2087640" cy="156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79280" y="404640"/>
            <a:ext cx="2087640" cy="1565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0" name=""/>
          <p:cNvSpPr/>
          <p:nvPr/>
        </p:nvSpPr>
        <p:spPr>
          <a:xfrm>
            <a:off x="179280" y="1731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13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16992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14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213660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15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213372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16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7840" y="42242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17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9840" y="422100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17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4214880"/>
            <a:ext cx="20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17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5640" y="4211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170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11280" y="1028880"/>
            <a:ext cx="12952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569680" y="1023840"/>
            <a:ext cx="129564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12720" y="3002040"/>
            <a:ext cx="12952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846520" y="3002040"/>
            <a:ext cx="12952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00040" y="5084640"/>
            <a:ext cx="12952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828880" y="5084640"/>
            <a:ext cx="12952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989600" y="5084640"/>
            <a:ext cx="129528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222680" y="5075280"/>
            <a:ext cx="129564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08:05:22Z</dcterms:created>
  <dc:creator>Telecom Italia S.p.A.</dc:creator>
  <dc:description/>
  <dc:language>en-US</dc:language>
  <cp:lastModifiedBy>Telecom Italia S.p.A.</cp:lastModifiedBy>
  <dcterms:modified xsi:type="dcterms:W3CDTF">2006-01-04T08:51:18Z</dcterms:modified>
  <cp:revision>4</cp:revision>
  <dc:subject/>
  <dc:title>Diapositiva 1</dc:title>
</cp:coreProperties>
</file>