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72A-D7BF-42E0-BF89-34A29DA8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47C-7525-4307-A6A5-254ABBB2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9D3-5508-4CCA-8BEB-361BA81A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724-90E0-44FC-B40A-694EB324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6C0-0A7D-49AC-BE43-ECC3961F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701-20AB-45B6-85BD-756400B9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0BC-805B-48A3-82AE-076DB18C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323-EF78-47B6-9B36-8DC2DD52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3FF-26F0-497B-84DC-FB36832E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CCB-B8BD-4F5D-A17C-1E56FE4A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997-673D-4801-BF7F-CEE898BF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BD2-F98D-4D17-B97B-6D0A25EC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8F15-69EC-4BD1-90C7-4F18A4A1D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313440" cy="1908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5640" y="4456080"/>
            <a:ext cx="208728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45080" y="445608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411280" y="445608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79280" y="445608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411280" y="237024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79280" y="237024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411280" y="40464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79280" y="40464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"/>
          <p:cNvSpPr/>
          <p:nvPr/>
        </p:nvSpPr>
        <p:spPr>
          <a:xfrm>
            <a:off x="179280" y="1731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3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16992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4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1366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213372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6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7840" y="42242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7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4221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7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421488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7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5640" y="4211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7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11280" y="102888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569680" y="1023840"/>
            <a:ext cx="12956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12720" y="300204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846520" y="300204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0040" y="508464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28880" y="508464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989600" y="508464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222680" y="5075280"/>
            <a:ext cx="12956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08:05:22Z</dcterms:created>
  <dc:creator>Telecom Italia S.p.A.</dc:creator>
  <dc:description/>
  <dc:language>en-US</dc:language>
  <cp:lastModifiedBy>Telecom Italia S.p.A.</cp:lastModifiedBy>
  <dcterms:modified xsi:type="dcterms:W3CDTF">2006-01-04T08:51:18Z</dcterms:modified>
  <cp:revision>4</cp:revision>
  <dc:subject/>
  <dc:title>Diapositiva 1</dc:title>
</cp:coreProperties>
</file>