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6668-7662-4B35-B25B-1112F7A7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A835-8FC2-4FC5-9864-D43A5BE1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20C-3234-4A9E-A1F5-76FF0004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3A5E-DA4B-4967-9D9D-3237D568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5DD-EB16-4FE0-9FD7-AF76DBE2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FD8-AE05-4031-9D22-79D50A18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7220-C8FC-44AF-864A-D8344FD6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229E-29D6-48E0-9D79-C08A597A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7F08-3ADE-4998-9367-BF9EDFD2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602-EC2B-4854-AC42-2FF92175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32E-8FDB-4C4F-ACEC-65F392E8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0859-6B35-4E86-B66D-D410D028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B47E-ECFB-4836-9518-497DCB90F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2280" y="4427640"/>
            <a:ext cx="5329080" cy="3994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92280" y="324000"/>
            <a:ext cx="5265720" cy="395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92240" y="3146400"/>
            <a:ext cx="3672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69880" y="7054920"/>
            <a:ext cx="3672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45000" y="3227040"/>
            <a:ext cx="796680" cy="49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75000" y="7151760"/>
            <a:ext cx="757440" cy="61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8T11:40:08Z</dcterms:created>
  <dc:creator>Telecom Italia S.p.A.</dc:creator>
  <dc:description/>
  <dc:language>en-US</dc:language>
  <cp:lastModifiedBy>Telecom Italia S.p.A.</cp:lastModifiedBy>
  <dcterms:modified xsi:type="dcterms:W3CDTF">2005-07-08T11:46:11Z</dcterms:modified>
  <cp:revision>1</cp:revision>
  <dc:subject/>
  <dc:title>Diapositiva 1</dc:title>
</cp:coreProperties>
</file>