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4BF4-3065-4C71-BCF8-727BA9A6E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07E4-7693-4C23-8D31-DCC53394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499C-8198-49CA-987D-8CB1587DB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16E3-2156-418C-A4C2-A514447EA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048C-7D73-4AE3-BB3B-42D6935A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9B48-76E0-45D0-AD64-7E8FCE13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E8EA-7A02-42B3-9BF9-A1820254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24C4-DCF2-41C3-8F63-5945E36E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18DB-AC1C-4378-B03C-20BCC3C6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BA3C-BC7D-400A-8789-6EDA9B44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F4BD-CAD1-46B6-9918-C417744B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D377-3C47-42A5-BCBA-8B60779E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5F4F-BB52-4F34-A7BF-7B3A12694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92280" y="4427640"/>
            <a:ext cx="5329080" cy="39942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92280" y="324000"/>
            <a:ext cx="5265720" cy="3957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92240" y="3146400"/>
            <a:ext cx="3672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69880" y="7054920"/>
            <a:ext cx="3672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45000" y="3227040"/>
            <a:ext cx="796680" cy="493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75000" y="7151760"/>
            <a:ext cx="757440" cy="61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8T11:40:08Z</dcterms:created>
  <dc:creator>Telecom Italia S.p.A.</dc:creator>
  <dc:description/>
  <dc:language>en-US</dc:language>
  <cp:lastModifiedBy>Telecom Italia S.p.A.</cp:lastModifiedBy>
  <dcterms:modified xsi:type="dcterms:W3CDTF">2005-07-08T11:46:11Z</dcterms:modified>
  <cp:revision>1</cp:revision>
  <dc:subject/>
  <dc:title>Diapositiva 1</dc:title>
</cp:coreProperties>
</file>