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842-2C94-422A-9FA1-1861A969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BE5-5757-4C71-AC8A-AF8BD2A6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021-C4BD-4C3D-A18D-436EA4C7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544-2BB0-48B9-AA11-57B48FB6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4F7-DFB5-496D-AE36-1F1B60D8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D58-0FCF-4E5B-BCD0-8064403E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38B-823D-4379-94B2-96621E60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60E-CFD4-4557-8DFF-C95485B9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174-8E5B-4B3A-98DF-39A8AC60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344-7E1B-4B62-80B7-527842FF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D610-B043-4F7B-B08A-5B066AB1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5DE9-3FB5-4E7E-94F1-0CE041E5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BA04-67C1-4293-9568-EBBDE3090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2280" y="4427640"/>
            <a:ext cx="5329080" cy="3994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92280" y="324000"/>
            <a:ext cx="5265720" cy="395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92240" y="3146400"/>
            <a:ext cx="3672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69880" y="7054920"/>
            <a:ext cx="3672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45000" y="3227040"/>
            <a:ext cx="796680" cy="49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75000" y="7151760"/>
            <a:ext cx="757440" cy="61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11:40:08Z</dcterms:created>
  <dc:creator>Telecom Italia S.p.A.</dc:creator>
  <dc:description/>
  <dc:language>en-US</dc:language>
  <cp:lastModifiedBy>Telecom Italia S.p.A.</cp:lastModifiedBy>
  <dcterms:modified xsi:type="dcterms:W3CDTF">2005-07-08T11:46:11Z</dcterms:modified>
  <cp:revision>1</cp:revision>
  <dc:subject/>
  <dc:title>Diapositiva 1</dc:title>
</cp:coreProperties>
</file>