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9DBE-4765-402F-A7EE-E6E157B28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0618-17D2-400D-9C47-AE0FE261E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E500-02F6-4940-8411-58FEC4375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CC4D-77F4-4194-95D4-BA11E0B27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1740-6BF0-4CA3-AD5A-417A18719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893F-F109-4A7A-8D18-9000B06B7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D712-9966-46C0-8DDE-12C818185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FB8C-200A-4510-880D-86B28B661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E506-1E24-4AE8-B608-0D981CC95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6B9F-45F9-4609-A972-7C5163FE8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7C3D-5996-455E-81E1-AA31E32B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9F77-3D9E-40C0-AD40-630F7B78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9D499-8E2B-4935-9D47-855DCB8C7A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92280" y="4427640"/>
            <a:ext cx="5329080" cy="39942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92280" y="324000"/>
            <a:ext cx="5265720" cy="3957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992240" y="3146400"/>
            <a:ext cx="3672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69880" y="7054920"/>
            <a:ext cx="3672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45000" y="3227040"/>
            <a:ext cx="796680" cy="493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375000" y="7151760"/>
            <a:ext cx="757440" cy="61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8T11:40:08Z</dcterms:created>
  <dc:creator>Telecom Italia S.p.A.</dc:creator>
  <dc:description/>
  <dc:language>en-US</dc:language>
  <cp:lastModifiedBy>Telecom Italia S.p.A.</cp:lastModifiedBy>
  <dcterms:modified xsi:type="dcterms:W3CDTF">2005-07-08T11:46:11Z</dcterms:modified>
  <cp:revision>1</cp:revision>
  <dc:subject/>
  <dc:title>Diapositiva 1</dc:title>
</cp:coreProperties>
</file>