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D81-17B2-4F21-B750-119C3DAC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EE3-E94A-4039-B7D9-05C5DD9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894-5D48-420B-88C7-E1ED3FC3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F64-9370-40D5-89F1-A62806C6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FF5-E88B-4A5F-8B52-6C10C299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D24-18FB-4A54-AD41-CCD6B79B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CCF-89CF-4912-89A0-7F7F539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71A-971E-4FF6-A0A8-8557873D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6C0-F9FE-47BF-9C53-5E0F19D6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0B1-66DA-4500-A577-26288F8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14F-018C-48EF-91F3-BA8FD72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E98-51F6-4952-905F-D8FAA45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E29-8170-4F0E-886B-AE05CE981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240" y="566640"/>
            <a:ext cx="777096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600" y="7452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6722"/>
              <a:gd name="adj5" fmla="val 248078"/>
              <a:gd name="adj6" fmla="val -9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le di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554508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961080" cy="187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060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967"/>
              <a:gd name="adj5" fmla="val 160578"/>
              <a:gd name="adj6" fmla="val -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74883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565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8435"/>
              <a:gd name="adj5" fmla="val 225962"/>
              <a:gd name="adj6" fmla="val -54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gli al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0480" y="595440"/>
            <a:ext cx="7764480" cy="566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00720" y="260280"/>
            <a:ext cx="23000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42"/>
              <a:gd name="adj5" fmla="val 411055"/>
              <a:gd name="adj6" fmla="val -93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052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3680"/>
              <a:gd name="adj5" fmla="val 292305"/>
              <a:gd name="adj6" fmla="val -6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at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997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2574"/>
              <a:gd name="adj5" fmla="val 162018"/>
              <a:gd name="adj6" fmla="val -6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7680" y="2238480"/>
            <a:ext cx="6850080" cy="238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98100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8300"/>
              <a:gd name="adj5" fmla="val 337981"/>
              <a:gd name="adj6" fmla="val -747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pa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1:53:35Z</dcterms:created>
  <dc:creator> </dc:creator>
  <dc:description/>
  <dc:language>en-US</dc:language>
  <cp:lastModifiedBy> </cp:lastModifiedBy>
  <dcterms:modified xsi:type="dcterms:W3CDTF">2005-06-03T11:53:42Z</dcterms:modified>
  <cp:revision>1</cp:revision>
  <dc:subject/>
  <dc:title>Diapositiva 1</dc:title>
</cp:coreProperties>
</file>