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79D-9161-4A75-AF47-DAC93293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1897-99D7-43A9-88FF-9AAD1762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2BE-8409-4C5C-87A1-B0804F9C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A81-C8EC-47F9-B242-D1BF3DBA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2EFA-6F2A-421A-9123-69038B15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8031-C317-4E9A-A005-9729E690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DA0-9CFB-4CDB-8390-0C12BF89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960-C5F0-418B-885E-515C7968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EFEB-2E88-40C2-923A-550983CD0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0C1-7C90-4DF7-BC0A-A093EFE0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CC18-D7B5-4356-B7C7-E8151133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B13-451E-4F20-BF69-33208560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649E-32DE-4BDD-BE3B-892BBF45D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7240" y="566640"/>
            <a:ext cx="7770960" cy="572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5600" y="7452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6722"/>
              <a:gd name="adj5" fmla="val 248078"/>
              <a:gd name="adj6" fmla="val -917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le di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836640"/>
            <a:ext cx="554508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773360"/>
            <a:ext cx="3961080" cy="1871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724360" y="2060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9967"/>
              <a:gd name="adj5" fmla="val 160578"/>
              <a:gd name="adj6" fmla="val -98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00000" y="3357720"/>
            <a:ext cx="7488360" cy="2735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300720" y="2565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28435"/>
              <a:gd name="adj5" fmla="val 225962"/>
              <a:gd name="adj6" fmla="val -545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 inseriscono gli ali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90480" y="595440"/>
            <a:ext cx="7764480" cy="5667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00720" y="260280"/>
            <a:ext cx="230004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47342"/>
              <a:gd name="adj5" fmla="val 411055"/>
              <a:gd name="adj6" fmla="val -9309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105264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3680"/>
              <a:gd name="adj5" fmla="val 292305"/>
              <a:gd name="adj6" fmla="val -6528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ati p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0360" y="299736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2574"/>
              <a:gd name="adj5" fmla="val 162018"/>
              <a:gd name="adj6" fmla="val -63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isi di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7680" y="2238480"/>
            <a:ext cx="6850080" cy="2381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0" y="981000"/>
            <a:ext cx="2300400" cy="330120"/>
          </a:xfrm>
          <a:prstGeom prst="borderCallout2">
            <a:avLst>
              <a:gd name="adj1" fmla="val 18750"/>
              <a:gd name="adj2" fmla="val -8333"/>
              <a:gd name="adj3" fmla="val 34615"/>
              <a:gd name="adj4" fmla="val -38300"/>
              <a:gd name="adj5" fmla="val 337981"/>
              <a:gd name="adj6" fmla="val -7474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nguetta analisi pa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3T11:53:35Z</dcterms:created>
  <dc:creator> </dc:creator>
  <dc:description/>
  <dc:language>en-US</dc:language>
  <cp:lastModifiedBy> </cp:lastModifiedBy>
  <dcterms:modified xsi:type="dcterms:W3CDTF">2005-06-03T11:53:42Z</dcterms:modified>
  <cp:revision>1</cp:revision>
  <dc:subject/>
  <dc:title>Diapositiva 1</dc:title>
</cp:coreProperties>
</file>