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D70-BB61-4918-9E4A-24066EA8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36A-F3A1-47F8-B582-9928F964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5E6-C7EF-4AFE-96F7-8A3E5DD2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980-03AA-467F-B4D4-A251A75B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E3F-DBC3-4C96-921A-B1FD396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AB5-6C9F-4604-9599-409FAE71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BD0-5CBD-4074-B91F-7B8B7AB6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7FF-CC02-4AE7-8695-7754A1F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98B-B8ED-4899-AD8E-5D7AA5D4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980-3B77-415A-891A-17365B5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84E-8482-44FE-9EBD-EA5113D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D0A-B0CA-4A6F-A7A9-0B48D063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B203-E5ED-407A-83D8-B3CC693B3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240" y="566640"/>
            <a:ext cx="777096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600" y="7452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6722"/>
              <a:gd name="adj5" fmla="val 248078"/>
              <a:gd name="adj6" fmla="val -9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le di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554508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961080" cy="187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060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967"/>
              <a:gd name="adj5" fmla="val 160578"/>
              <a:gd name="adj6" fmla="val -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7488360" cy="27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565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8435"/>
              <a:gd name="adj5" fmla="val 225962"/>
              <a:gd name="adj6" fmla="val -545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gli al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0480" y="595440"/>
            <a:ext cx="7764480" cy="566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00720" y="260280"/>
            <a:ext cx="23000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42"/>
              <a:gd name="adj5" fmla="val 411055"/>
              <a:gd name="adj6" fmla="val -93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052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3680"/>
              <a:gd name="adj5" fmla="val 292305"/>
              <a:gd name="adj6" fmla="val -65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at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997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2574"/>
              <a:gd name="adj5" fmla="val 162018"/>
              <a:gd name="adj6" fmla="val -6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7680" y="2238480"/>
            <a:ext cx="6850080" cy="238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98100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8300"/>
              <a:gd name="adj5" fmla="val 337981"/>
              <a:gd name="adj6" fmla="val -7474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pa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1:53:35Z</dcterms:created>
  <dc:creator> </dc:creator>
  <dc:description/>
  <dc:language>en-US</dc:language>
  <cp:lastModifiedBy> </cp:lastModifiedBy>
  <dcterms:modified xsi:type="dcterms:W3CDTF">2005-06-03T11:53:42Z</dcterms:modified>
  <cp:revision>1</cp:revision>
  <dc:subject/>
  <dc:title>Diapositiva 1</dc:title>
</cp:coreProperties>
</file>