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05BF-59F7-43B7-A4E4-9D89D10BA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4AB3-EDFA-4C51-B39B-2FD33DB5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2340-C49C-404C-B5DA-EF06B3698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9C29-3311-47BB-B242-A033CEFD0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70A0-7F4F-4103-A007-89FCB6B6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839A-6E51-47BE-9F35-70555A23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923E-3AB2-4347-8935-33A8C337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E397-35AB-45C1-93B5-D2E90483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32C3-47AC-4871-966E-8CAE9C87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F8BC-0FF5-41DF-9295-53B983FA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277B-B47B-46F2-978E-7711BC1A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882C-2193-45DB-85A7-87DA34BA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90BD-E6A5-497A-8183-084D8A44D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7240" y="566640"/>
            <a:ext cx="7770960" cy="572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935600" y="74520"/>
            <a:ext cx="230040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46722"/>
              <a:gd name="adj5" fmla="val 248078"/>
              <a:gd name="adj6" fmla="val -917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 inseriscono le di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836640"/>
            <a:ext cx="5545080" cy="79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773360"/>
            <a:ext cx="3961080" cy="187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24360" y="2060640"/>
            <a:ext cx="230040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49967"/>
              <a:gd name="adj5" fmla="val 160578"/>
              <a:gd name="adj6" fmla="val -984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 inseriscono i pa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3357720"/>
            <a:ext cx="7488360" cy="2735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00720" y="2565360"/>
            <a:ext cx="230040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28435"/>
              <a:gd name="adj5" fmla="val 225962"/>
              <a:gd name="adj6" fmla="val -545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 inseriscono gli alime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90480" y="595440"/>
            <a:ext cx="7764480" cy="5667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00720" y="260280"/>
            <a:ext cx="230004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47342"/>
              <a:gd name="adj5" fmla="val 411055"/>
              <a:gd name="adj6" fmla="val -930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guetta analisi di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1052640"/>
            <a:ext cx="230040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33680"/>
              <a:gd name="adj5" fmla="val 292305"/>
              <a:gd name="adj6" fmla="val -652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isi dati pa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0360" y="2997360"/>
            <a:ext cx="230040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32574"/>
              <a:gd name="adj5" fmla="val 162018"/>
              <a:gd name="adj6" fmla="val -630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isi di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7680" y="2238480"/>
            <a:ext cx="6850080" cy="2381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0" y="981000"/>
            <a:ext cx="230040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38300"/>
              <a:gd name="adj5" fmla="val 337981"/>
              <a:gd name="adj6" fmla="val -7474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guetta analisi pa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3T11:53:35Z</dcterms:created>
  <dc:creator> </dc:creator>
  <dc:description/>
  <dc:language>en-US</dc:language>
  <cp:lastModifiedBy> </cp:lastModifiedBy>
  <dcterms:modified xsi:type="dcterms:W3CDTF">2005-06-03T11:53:42Z</dcterms:modified>
  <cp:revision>1</cp:revision>
  <dc:subject/>
  <dc:title>Diapositiva 1</dc:title>
</cp:coreProperties>
</file>