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AD58-C7EB-4155-A3AA-45196F40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336-4761-4D09-89A7-634B7151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414-B104-4A6D-949F-0DEB68FF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435-F12A-4B65-BEC7-43CEEAD7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78E-5729-484E-87CD-FC98CAEF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75C-F2B7-41BB-93E5-B6209B7B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8589-16BE-4364-B791-9794EDD2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715D-0D05-4020-86ED-5838BBB7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9560-0B11-4B61-8452-9D63D079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8E2-083C-425F-AB30-77444017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6F4-BE34-49BB-8B6B-BB822730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5286-023D-491C-929E-0787151C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AC03-7F70-404E-B6F9-EC7DC7DB3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7240" y="566640"/>
            <a:ext cx="7770960" cy="572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35600" y="7452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6722"/>
              <a:gd name="adj5" fmla="val 248078"/>
              <a:gd name="adj6" fmla="val -917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 inseriscono le di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836640"/>
            <a:ext cx="5545080" cy="79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773360"/>
            <a:ext cx="3961080" cy="187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206064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9967"/>
              <a:gd name="adj5" fmla="val 160578"/>
              <a:gd name="adj6" fmla="val -984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 inseriscono i pa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3357720"/>
            <a:ext cx="7488360" cy="2735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00720" y="256536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28435"/>
              <a:gd name="adj5" fmla="val 225962"/>
              <a:gd name="adj6" fmla="val -545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 inseriscono gli ali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90480" y="595440"/>
            <a:ext cx="7764480" cy="566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00720" y="260280"/>
            <a:ext cx="230004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7342"/>
              <a:gd name="adj5" fmla="val 411055"/>
              <a:gd name="adj6" fmla="val -930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guetta analisi di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05264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3680"/>
              <a:gd name="adj5" fmla="val 292305"/>
              <a:gd name="adj6" fmla="val -652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isi dati pa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299736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2574"/>
              <a:gd name="adj5" fmla="val 162018"/>
              <a:gd name="adj6" fmla="val -63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isi di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7680" y="2238480"/>
            <a:ext cx="6850080" cy="2381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98100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8300"/>
              <a:gd name="adj5" fmla="val 337981"/>
              <a:gd name="adj6" fmla="val -7474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guetta analisi pa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11:53:35Z</dcterms:created>
  <dc:creator> </dc:creator>
  <dc:description/>
  <dc:language>en-US</dc:language>
  <cp:lastModifiedBy> </cp:lastModifiedBy>
  <dcterms:modified xsi:type="dcterms:W3CDTF">2005-06-03T11:53:42Z</dcterms:modified>
  <cp:revision>1</cp:revision>
  <dc:subject/>
  <dc:title>Diapositiva 1</dc:title>
</cp:coreProperties>
</file>