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F5E-1E6B-4853-8F59-59EA882F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F63E-0889-41CA-971F-324192EE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41B-100D-414A-B6B4-9837F6F6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D366-1FA1-4C0F-8C3E-2529D295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DE1-E905-45F2-BBDB-24434570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2C6-A3B6-43D9-B849-131934F1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FC8-062D-494C-8D06-57987D25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032-0ABB-40F6-A1AF-327E68B0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F04F-FBBF-4E40-85C0-90567067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3F47-247F-4F9F-B787-B811658A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8E74-4729-4262-9E0E-95FFA0DD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E43-5211-44B6-AEF5-34A264E9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A06F-CB0B-4F3A-8D67-ACDA9FA52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977080" cy="5281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1116000" y="2205000"/>
            <a:ext cx="3384720" cy="115272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6720" y="32130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9:34:58Z</dcterms:created>
  <dc:creator>Telecomitalia S.p.A.</dc:creator>
  <dc:description/>
  <dc:language>en-US</dc:language>
  <cp:lastModifiedBy>Telecomitalia S.p.A.</cp:lastModifiedBy>
  <dcterms:modified xsi:type="dcterms:W3CDTF">2005-02-28T09:35:06Z</dcterms:modified>
  <cp:revision>1</cp:revision>
  <dc:subject/>
  <dc:title>Slide 1</dc:title>
</cp:coreProperties>
</file>