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919-EFD8-4EE3-B85A-A02E9289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41A-59D1-4A81-8FB2-1CF50CDC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4EB-E0FA-4746-914A-D8F314B5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138-7BEE-445B-AD51-A62BE0A8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337-E5A4-4C3D-8984-2DDA3219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406-F585-44FB-B88A-00AB374E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FD7-9030-49EA-8650-27493122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C8A-10E1-4790-8EEC-BD991A9B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C24-E58B-4793-9942-72B198DA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BD9-075E-494A-BB3F-D1B2500B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55D-0E5D-4A58-BA50-A442096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B6B-A970-429A-9312-D077442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7C36-9E65-45A8-A3CD-37740A98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528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116000" y="2205000"/>
            <a:ext cx="3384720" cy="1152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21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4:58Z</dcterms:created>
  <dc:creator>Telecomitalia S.p.A.</dc:creator>
  <dc:description/>
  <dc:language>en-US</dc:language>
  <cp:lastModifiedBy>Telecomitalia S.p.A.</cp:lastModifiedBy>
  <dcterms:modified xsi:type="dcterms:W3CDTF">2005-02-28T09:35:06Z</dcterms:modified>
  <cp:revision>1</cp:revision>
  <dc:subject/>
  <dc:title>Slide 1</dc:title>
</cp:coreProperties>
</file>