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BB1-A4C8-42B9-8A29-5B66CFC9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188-4B88-4ECF-9236-D5504A62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90C-88E0-49B5-A49F-A052B348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006-2EE4-47BD-9BDE-5C6863BF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3A2-2043-440F-A708-F792E56D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C42-A239-4CD4-BAA2-E2022FBD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BCC-0A03-452A-B9D3-2DD0454B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FDE-17B3-4B99-9928-45A2007D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C4D-06FC-4D4A-A9FA-F982579F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EEE-15FF-4A76-8D6F-16B35C4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6D8-0FB4-4BC4-89A4-D73E36AD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403-251E-477D-9A59-DF9A8B4F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FF65-D03F-4B55-8B31-3BE0F8061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977080" cy="528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116000" y="2205000"/>
            <a:ext cx="3384720" cy="11527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321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9:34:58Z</dcterms:created>
  <dc:creator>Telecomitalia S.p.A.</dc:creator>
  <dc:description/>
  <dc:language>en-US</dc:language>
  <cp:lastModifiedBy>Telecomitalia S.p.A.</cp:lastModifiedBy>
  <dcterms:modified xsi:type="dcterms:W3CDTF">2005-02-28T09:35:06Z</dcterms:modified>
  <cp:revision>1</cp:revision>
  <dc:subject/>
  <dc:title>Slide 1</dc:title>
</cp:coreProperties>
</file>