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4BB8-F724-46D5-A9C6-DDB05EE61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AB37-B7DD-4BC8-892D-6D6DB64B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61E3-ADF8-4F4C-B1D1-497465CC0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6A1B-EB93-47CD-96E1-4A7228612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FACF-F09E-435D-8D02-3A4436D7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0553-475E-4327-BB96-EA719291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7EE7-B317-4E68-9EE6-B48DE484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DC50-E888-4780-B7F2-07AA9412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3736-2CD8-4225-B6DF-27F51980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FD73-F8CA-4C5A-8C56-03B5EFAF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DEFE-3720-431C-B64A-1C6B0770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5681-F9B9-426D-8F64-FD15BE30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A36E-2DF5-4632-B824-28B6B6F07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63640" y="765000"/>
            <a:ext cx="5977080" cy="5281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V="1">
            <a:off x="1116000" y="2205000"/>
            <a:ext cx="3384720" cy="1152720"/>
          </a:xfrm>
          <a:prstGeom prst="line">
            <a:avLst/>
          </a:prstGeom>
          <a:ln w="572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6720" y="321300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09:34:58Z</dcterms:created>
  <dc:creator>Telecomitalia S.p.A.</dc:creator>
  <dc:description/>
  <dc:language>en-US</dc:language>
  <cp:lastModifiedBy>Telecomitalia S.p.A.</cp:lastModifiedBy>
  <dcterms:modified xsi:type="dcterms:W3CDTF">2005-02-28T09:35:06Z</dcterms:modified>
  <cp:revision>1</cp:revision>
  <dc:subject/>
  <dc:title>Slide 1</dc:title>
</cp:coreProperties>
</file>