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6460-7699-4E34-AB25-7D3AC45F4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B516-5277-4579-98E9-135C8E8D5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568E-1DB2-46BC-818D-BD13CA451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75D1-D9F4-4F99-9455-43880A7AC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B8B7-6FA8-4A34-A4CC-6DC4F9A09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0BD2-E142-46BB-AC1C-51FC2E464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C828-D998-4286-9385-7910BCE2D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6FAF-CFF6-4EF3-9508-02B16B406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0C56-9F09-42F1-83F6-FD04A188E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3FE3-9B12-4F98-B8BA-00BEC885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E660-0F2B-403F-98C3-2A041B1A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3E8E-BC5C-41C1-A4A2-C46E81FA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7DEE0-52F0-41E7-968F-2C2CE6E11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63640" y="765000"/>
            <a:ext cx="5977080" cy="5281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flipV="1">
            <a:off x="1116000" y="2205000"/>
            <a:ext cx="3384720" cy="1152720"/>
          </a:xfrm>
          <a:prstGeom prst="line">
            <a:avLst/>
          </a:prstGeom>
          <a:ln w="572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6720" y="321300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8T09:34:58Z</dcterms:created>
  <dc:creator>Telecomitalia S.p.A.</dc:creator>
  <dc:description/>
  <dc:language>en-US</dc:language>
  <cp:lastModifiedBy>Telecomitalia S.p.A.</cp:lastModifiedBy>
  <dcterms:modified xsi:type="dcterms:W3CDTF">2005-02-28T09:35:06Z</dcterms:modified>
  <cp:revision>1</cp:revision>
  <dc:subject/>
  <dc:title>Slide 1</dc:title>
</cp:coreProperties>
</file>