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892F-EB76-4A51-9974-A17AA1C48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624A-322D-4BE0-B6D3-94670EE9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F6B4-9BC2-411E-8408-58B0F105D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F7B7-694C-45B8-8366-C79929BD7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F152-C09A-4FE3-880E-5339FD76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0F9E-9CAC-4C09-8E89-75609689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FDF4-D053-41D4-BB08-6F9F166F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9340-D128-44CD-804A-34E5A2AB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1A9C-7F68-41B4-94D6-0461FE2A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E690-8614-4897-972C-B91FEA45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B39C-7142-4896-84C8-78908723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4CDE-6AB0-4CBF-9845-2C5935A4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0CF7-B457-43E3-96B4-86C3F36BC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63640" y="765000"/>
            <a:ext cx="5977080" cy="5281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V="1">
            <a:off x="1116000" y="2205000"/>
            <a:ext cx="3384720" cy="1152720"/>
          </a:xfrm>
          <a:prstGeom prst="line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6720" y="321300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09:34:58Z</dcterms:created>
  <dc:creator>Telecomitalia S.p.A.</dc:creator>
  <dc:description/>
  <dc:language>en-US</dc:language>
  <cp:lastModifiedBy>Telecomitalia S.p.A.</cp:lastModifiedBy>
  <dcterms:modified xsi:type="dcterms:W3CDTF">2005-02-28T09:35:06Z</dcterms:modified>
  <cp:revision>1</cp:revision>
  <dc:subject/>
  <dc:title>Slide 1</dc:title>
</cp:coreProperties>
</file>