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AE7-604A-4C56-8C0C-6FAACF77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246-4C2F-4C24-842A-633D19DB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A1C-420A-438D-8B1D-40E43542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28D-043F-46F1-A840-CFC0805C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78CE-65D6-4B4C-9570-F83CCE96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848-5E4D-4064-83EC-AD6AB140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782-128F-4AE5-98BD-9014FC36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217-E432-4374-B6C6-DF313AD4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D4D-B0E9-4DF8-94E1-0BF8645C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C23-9D01-4733-BF0E-DF7FAA1A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6FB-A068-48D5-BC48-4AD2196E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2BF-9E2E-49DC-AB58-62F3369F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A266-1879-4B03-9009-16DADA471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977080" cy="5281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116000" y="2205000"/>
            <a:ext cx="3384720" cy="115272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720" y="3213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9:34:58Z</dcterms:created>
  <dc:creator>Telecomitalia S.p.A.</dc:creator>
  <dc:description/>
  <dc:language>en-US</dc:language>
  <cp:lastModifiedBy>Telecomitalia S.p.A.</cp:lastModifiedBy>
  <dcterms:modified xsi:type="dcterms:W3CDTF">2005-02-28T09:35:06Z</dcterms:modified>
  <cp:revision>1</cp:revision>
  <dc:subject/>
  <dc:title>Slide 1</dc:title>
</cp:coreProperties>
</file>